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11B-A5CC-4850-AD9E-671D7592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708-C5FC-4018-892A-239966D3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98-BE3C-4BAA-91BA-BD2B794F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7F2-C72C-4EDC-A3B2-CFD9783A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96F-9A26-437F-A3E8-F807B53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C0A-9840-499A-B95D-A53D82A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744-9245-437F-94E9-DE4ECF6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E27-5D24-4FF5-9099-659AB89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5DA-23C0-4B30-81B8-473F43B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1FA-EB3E-4BCF-8634-C9274BA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F28-300E-4066-B9E3-2004B0DB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B93-F583-465B-AF78-7E49E085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62320" y="228600"/>
            <a:ext cx="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4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DB1-61F7-48DB-9DB9-289F60A9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62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060640"/>
            <a:ext cx="741708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ulo César Hartung G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vernador do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ria da Glória Brito Abaurr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ecretária da SE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retora Presidente do I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048120"/>
            <a:ext cx="871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GESTÃO DE RECURSOS HÍDRICOS NO ESPÍRITO SANTO: PLANO ESTADUAL E OUTORG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retaria de Estado de Meio Ambiente e Recursos Hídricos – SEA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ituto Estadual de Meio Ambiente e Recursos Hídricos - I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1413000"/>
            <a:ext cx="7912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lítica Estadual de Recursos Hídricos Lei nº 5.818 de 30/12/98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Autoridade outorgante e órgão ambiental: IEMA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Gerência de Recursos Hídricos - G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1268280"/>
            <a:ext cx="7912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lano Estadual de Recursos Híd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 elaborada pela Gerência de Recursos Hídricos sendo apreciada pela Diretoria do IEM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steriormente será levada a Câmara Técnica de Planos e aprovação junto ao CE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8100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Outor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Resolução do CERH que regulamenta os critérios gerais de outorga em fase final de aprovação pelo Conselho. Próxima reunião: 07/07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Estabelece a necessidade de obtenção da Declaração de Reserva de Disponibilidade Hídric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Defini os critérios técnicos de outorg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Propost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de referência: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rios perenes) e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95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rios intermitent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máxima outorgável: 50%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20% para um mesmo usuário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Regulamenta a manifestação prévi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s (cont.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Critérios técnicos para água subterrânea, lançamento de efluentes e aproveitamento de potencial hidráulico definidos em Portarias específicas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dispensados de outorga até definição de critérios mas devem ser cadastr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1557360"/>
            <a:ext cx="7912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Gerência de Recursos Hídricos – GR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grh@iema.es.gov.b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(27) 3136-3525/35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20:01:06Z</dcterms:created>
  <dc:creator>zedu</dc:creator>
  <dc:description/>
  <dc:language>en-US</dc:language>
  <cp:lastModifiedBy>Iema</cp:lastModifiedBy>
  <cp:lastPrinted>2001-03-14T13:46:02Z</cp:lastPrinted>
  <dcterms:modified xsi:type="dcterms:W3CDTF">2005-06-29T16:52:24Z</dcterms:modified>
  <cp:revision>914</cp:revision>
  <dc:subject/>
  <dc:title>Slide sem título </dc:title>
</cp:coreProperties>
</file>